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A740-4C97-473F-A89A-9D47AB33B42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6345-2A8E-4C9A-AD2E-1390770F6F4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η δημοκρατία ακμάζει χάρη στην ελεύθερη ροή των πληροφοριών, οι αυταρχικοί ηγέτες διατηρούνται ισχυροί περιορίζοντας την ελεύθερη έκφραση, με αποτέλεσμα η δημοσιογραφία να είναι καθυποταγμένη, αν όχι δουλοπρεπή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αυταρχικά καθεστώτα, οι δημοσιογράφοι όχι μόνο δεν λειτουργούν ως τέταρτη εξουσία, ρίχνοντας φως στις σκοτεινές γωνιές της κυβερνητικής δραστηριότητας, αλλά υποτάσσονται στην πολιτική εξουσί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πενιχρά οικονομικά μέσα στο χώρο των μίντια καθιστούν τα μέσα ενημέρωσης ακόμη πιο ευάλωτα στις πιέσει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κρατικοί τηλεοπτικοί σταθμοί και οι επιχορηγούμενες εφημερίδες αναπαράγουν την πολιτική γραμμή του καθεστώτος, οι δημοσιογράφοι που ασκούν κριτική δέχονται ενοχλήσεις, ενώ ολόκληρος ο κλάδος των μέσων ενημέρωσης μαθαίνει να επιβιώνει μέσω της αυτολογοκρισίας.</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FD96-3C32-4391-A97D-B2654C158E7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παγάνδα (propaganda) είναι μορφή επικοινωνίας ενός οργανισμού που στοχεύει στην προώθηση συγκεκριμένου στόχου μέσω της αλλαγής των στάσεων και ιδιαίτερα της συμπεριφοράς μεγάλου αριθμού ανθρώπων. Ο όρος έχει θρησκευτικές καταβολές: το 1622, η Καθολική Εκκλησία ίδρυσε ένα Κολέγιο Προπαγάνδας για να διαδώσει (στα λατινικά propagare) την πίστ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1484F-71E7-4EDF-B3FE-0500A8A699A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ανελεύθερες δημοκρατίες, ο έλεγχος επί των μέσων ενημέρωσης είναι πολύ λιγότερο εκτεταμένος σε σχέση με τα απολυταρχικά κράτη.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η κυρίαρχη πολιτική φιγούρα κυριαρχεί και στη ραδιοτηλεοπτική κάλυψη των ειδήσεων, ακόμη και όπου δεν υφίσταται κάποια μορφή άμεσης ή έμμεσης λογοκρισία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κόμα και σε πολλές πρώην κομμουνιστικές, ανελεύθερες δημοκρατίες, οι πιέσεις προς τα μέσα ενημέρωσης -όχι μόνο από πολιτικούς αλλά και από ισχυρά πρόσωπα του επιχειρηματικού κόσμου- παραμένουν ισχυρές. Στη Ρωσία, για παράδειγμα, η επιρροή αυτή απορρέει ακριβώς από τον δεσπόζοντα ρόλο που παίζει η τηλεόραση στην πολιτική επικοινωνία.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F944-2183-4A88-9A5D-378354D3F35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μαζικά μέσα (mass media) αναφέρονται στις μεθόδους επικοινωνίας που μπορούν να προσεγγίσουν ταυτοχρόνως ένα μεγάλο και εν δυνάμει απεριόριστο αριθμό δεκτών. Τα μέσα αυτά περιλαμβάνουν την τηλεόραση, τις εφημερίδες, το ραδιόφωνο, τα βιβλία, τα περιοδικά, τον κινηματογράφο, τα ιστολόγια, τις ιστοσελίδες και τις αφίσ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4165-31D3-4FAC-B13D-E0EE0F4F60B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ξέταση της πολιτικής επικοινωνίας, είναι χρήσιμη η κατάτμηση της δραστηριότητας αυτής στα συστατικά της στοιχεία. Αυτό μάς οδηγεί σε ένα μοντέλο που είναι γνωστό ως μοντέλο της μετάδοσης: η πράξη της επικοινωνίας συνίσταται στο ποιος λέει τι σε ποιον, με ποιο μέσο και με ποια αποτελέσματα. Το μοντέλο διακρίνει πέντε συνιστώσες σε κάθε μορφή επικοινων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Έναν επικοινωνητή: ποι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Ένα μήνυμα: τ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Ένα κανάλι: με ποιο μέσ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Ένα δέκτη: σε ποιο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Μια εκτιμώμενη επίδραση: με ποιο αποτέλεσμα;</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351A-5CF7-43B8-8496-FA24947C355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ύγχρονες τάσεις στη μαζική επικοινωνία μπορούν να προσδιοριστούν ως εξή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Εμπορευματοποίηση</a:t>
            </a:r>
            <a:r>
              <a:rPr b="0" lang="en-US" sz="1200" spc="-1" strike="noStrike">
                <a:solidFill>
                  <a:srgbClr val="000000"/>
                </a:solidFill>
                <a:latin typeface="Arial"/>
              </a:rPr>
              <a:t>:</a:t>
            </a:r>
            <a:r>
              <a:rPr b="0" lang="el-GR" sz="1200" spc="-1" strike="noStrike">
                <a:solidFill>
                  <a:srgbClr val="000000"/>
                </a:solidFill>
                <a:latin typeface="Arial"/>
              </a:rPr>
              <a:t> παρακμή των δημόσιων μέσων ενημέρωσης, άνθηση των ιδιωτικών, κερδοσκοπικών μέσων που αντιμετωπίζουν τους χρήστες ως καταναλωτές παρά ως πολίτ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Κατακερματισμός</a:t>
            </a:r>
            <a:r>
              <a:rPr b="0" lang="en-US" sz="1200" spc="-1" strike="noStrike">
                <a:solidFill>
                  <a:srgbClr val="000000"/>
                </a:solidFill>
                <a:latin typeface="Arial"/>
              </a:rPr>
              <a:t>:</a:t>
            </a:r>
            <a:r>
              <a:rPr b="0" lang="el-GR" sz="1200" spc="-1" strike="noStrike">
                <a:solidFill>
                  <a:srgbClr val="000000"/>
                </a:solidFill>
                <a:latin typeface="Arial"/>
              </a:rPr>
              <a:t> πληθώρα καναλιών και αυξημένη δυνατότητα των καταναλωτών να κατεβάζουν από το Διαδίκτυο και να παρακολουθούν προγράμματα κατά παραγγελ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Παγκοσμιοποίηση</a:t>
            </a:r>
            <a:r>
              <a:rPr b="0" lang="en-US" sz="1200" spc="-1" strike="noStrike">
                <a:solidFill>
                  <a:srgbClr val="000000"/>
                </a:solidFill>
                <a:latin typeface="Arial"/>
              </a:rPr>
              <a:t>:</a:t>
            </a:r>
            <a:r>
              <a:rPr b="0" lang="el-GR" sz="1200" spc="-1" strike="noStrike">
                <a:solidFill>
                  <a:srgbClr val="000000"/>
                </a:solidFill>
                <a:latin typeface="Arial"/>
              </a:rPr>
              <a:t> ευκολότερη πρόσβαση στα διεθνή γεγονότα και στα μέσα επικοινωνίας στο πλαίσιο του πλανητικού χωρι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Διαντίδραση</a:t>
            </a:r>
            <a:r>
              <a:rPr b="0" lang="en-US" sz="1200" spc="-1" strike="noStrike">
                <a:solidFill>
                  <a:srgbClr val="000000"/>
                </a:solidFill>
                <a:latin typeface="Arial"/>
              </a:rPr>
              <a:t>:</a:t>
            </a:r>
            <a:r>
              <a:rPr b="0" lang="el-GR" sz="1200" spc="-1" strike="noStrike">
                <a:solidFill>
                  <a:srgbClr val="000000"/>
                </a:solidFill>
                <a:latin typeface="Arial"/>
              </a:rPr>
              <a:t> αύξηση της χρήσης διαντιδραστικών καναλιών (όπως το ηλεκτρονικό ταχυδρομείο και τα παιχνίδια), περιορίζει την παθητική έκθεση στην πολιτική μέσω της παραδοσιακής εκ των άνω επικοινωνίας.</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0942-5D0D-42FB-A54C-36DF7B93DA1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δομή των ΜΜΕ (structure of the media) αναφέρεται στα γενικά πρότυπα που ακολουθούν τα ΜΜΕ και, ειδικότερα, στις σχέσεις μεταξύ των μέσων επικοινωνίας, του κράτους και της οικονομίας. Για παράδειγμα, ο όγκος της κυκλοφορίας των εφημερίδων, η απήχηση της δημόσιας ραδιοτηλεόρασης και το κατά πόσον ο Τύπος είναι κομματικοποιημένος αποτελούν δομικά στοιχεία των μέσων ενημέρω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7728-5167-4666-9808-B7EDFD130E8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έσσερις είναι οι κύριοι μηχανισμοί της επίδρασης που ασκούν τα μέσα</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νίσχυση (reinforcement)</a:t>
            </a:r>
            <a:r>
              <a:rPr b="0" lang="en-US" sz="1200" spc="-1" strike="noStrike">
                <a:solidFill>
                  <a:srgbClr val="000000"/>
                </a:solidFill>
                <a:latin typeface="Arial"/>
              </a:rPr>
              <a:t>:</a:t>
            </a:r>
            <a:r>
              <a:rPr b="0" lang="el-GR" sz="1200" spc="-1" strike="noStrike">
                <a:solidFill>
                  <a:srgbClr val="000000"/>
                </a:solidFill>
                <a:latin typeface="Arial"/>
              </a:rPr>
              <a:t> τα μέσα επικοινωνίας ενισχύουν τις προϋπάρχουσες απόψεις του κοινού.</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ιαμόρφωση της ημερήσιας θεματολογίας (agenda- setting)</a:t>
            </a:r>
            <a:r>
              <a:rPr b="0" lang="en-US" sz="1200" spc="-1" strike="noStrike">
                <a:solidFill>
                  <a:srgbClr val="000000"/>
                </a:solidFill>
                <a:latin typeface="Arial"/>
              </a:rPr>
              <a:t>:</a:t>
            </a:r>
            <a:r>
              <a:rPr b="0" lang="el-GR" sz="1200" spc="-1" strike="noStrike">
                <a:solidFill>
                  <a:srgbClr val="000000"/>
                </a:solidFill>
                <a:latin typeface="Arial"/>
              </a:rPr>
              <a:t> τα μέσα επικοινωνίας επηρεάζουν τα θέματα για τα οποία σκεφτόμαστε και συζητούμε.</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ρμηνευτική πλαισίωση (framing)</a:t>
            </a:r>
            <a:r>
              <a:rPr b="0" lang="en-US" sz="1200" spc="-1" strike="noStrike">
                <a:solidFill>
                  <a:srgbClr val="000000"/>
                </a:solidFill>
                <a:latin typeface="Arial"/>
              </a:rPr>
              <a:t>:</a:t>
            </a:r>
            <a:r>
              <a:rPr b="0" lang="el-GR" sz="1200" spc="-1" strike="noStrike">
                <a:solidFill>
                  <a:srgbClr val="000000"/>
                </a:solidFill>
                <a:latin typeface="Arial"/>
              </a:rPr>
              <a:t> ο τρόπος αφήγησης του γεγονότος ως εύληπτης ιστορίας αναδεικνύει συγκεκριμένες πτυχές του.</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υτερογενής επίδραση (priming)</a:t>
            </a:r>
            <a:r>
              <a:rPr b="0" lang="en-US" sz="1200" spc="-1" strike="noStrike">
                <a:solidFill>
                  <a:srgbClr val="000000"/>
                </a:solidFill>
                <a:latin typeface="Arial"/>
              </a:rPr>
              <a:t>:</a:t>
            </a:r>
            <a:r>
              <a:rPr b="0" lang="el-GR" sz="1200" spc="-1" strike="noStrike">
                <a:solidFill>
                  <a:srgbClr val="000000"/>
                </a:solidFill>
                <a:latin typeface="Arial"/>
              </a:rPr>
              <a:t> η κάλυψη των μέσων επηρεάζει τον τρόπο με τον οποίο ερμηνεύουμε γεγονότα πέραν αυτών του συγκεκριμένου ρεπορτάζ.</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A5D0-7E95-4D56-8F0E-E538D5D4FC0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κοινή γνώμη (public opinion) μπορεί να αναφέρεται απλώς στο εύρος των απόψεων που έχει ένα σημαντικό ποσοστό του πληθυσμού για κάποιο αμφιλεγόμενο ζήτημα. O πιο φιλόδοξος ορισμός είναι ότι ο όρος υποδηλώνει τη σταθμισμένη κρίση μιας κοινότητας για ένα θέμα κοινού ενδιαφέροντος, κρίση που σχηματίζεται στο πλαίσιο κοινών πολιτικών στόχ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C58C-1D55-49F3-9435-B059FD5B354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φυγμομέτρηση συνίσταται σε μια σειρά από ερωτήματα που διατυπώνονται με συγκεκριμένο τρόπο σε ένα συστηματικά επιλεγμένο δείγμα του πληθυσμού. Ο όρος παραπέμπει συνήθως σε περιορισμένου εύρους έρευνες, που αφορούν θέματα τρέχοντος ενδιαφέροντος και γίνονται για λογαριασμό των μέσων ενημέρωσης. Οι έρευνες γνώμης διενεργούνται συνήθως πρόσωπο με πρόσωπο, από τηλεφώνου ή μέσω ηλεκτρονικού ταχυδρομείου.</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ιγματοληπτική έρευνα χρησιμοποιεί συνήθως μεθόδους παρόμοιες με αυτές των ερευνών γνώμης, με τη διαφορά, όμως, ότι το ερωτηματολόγιο είναι πιο λεπτομερές. Διενεργείται συνήθως για λογαριασμό κυβερνήσεων και ακαδημαϊκών ερευνητών.</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ομάδα εστίασης είναι μια συντονισμένη συζήτηση στο πλαίσιο μικρής ομάδας συμμετεχόντων πάνω σε συγκεκριμένο θέμα. Οι ομάδες εστίασης αποτελούν τεχνικές ποιοτικής καταγραφής στοιχείων, που χρησιμοποιούνται για να διερευνήσουν τις σκέψεις και τα συναισθήματα που κρύβονται πίσω από τις στάσεις των ανθρώπων. Πρόκειται για τεχνική ανοιχτού τέλους, εξαιρετικά δημοφιλή στα στρατηγεία των κομμάτων.</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διαβουλευτικές δημοσκοπήσεις με επιλεγμένα δείγματα πολιτών ή βήματα των πολιτών, τους συμμετέχοντες ενημερώνουν και τους θέτουν ερωτήματα ειδικοί και πολιτικά πρόσωπα. Προτού μετρηθούν οι γνώμες τους, προηγείται διάλογος. Σκοπός της τεχνικής αυτής είναι να αναδείξει τις στάσεις που θα είχε η κοινή γνώμη εάν είχε ενημερωθεί επαρκώς για το εκάστοτε ζήτημα.</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A5885-9025-4F31-876B-330F55F08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8DBEC-B161-40C9-A0FC-21A9D724A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4DE3C-56F4-4E0B-80F4-D44443354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B5BB6-B1A7-4FB2-8FD4-76A644435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94AFA-FFD6-4E34-B787-0E9523F4F8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B3D6B-5DF9-4596-AAFB-713D6879C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396B4-3084-4FA6-B8A6-D09A2D5B5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A5921-8988-4CA3-8DC0-5CBFD5E71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F7770-31C4-4677-BDD0-82049F620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303BD-297D-4618-8B1F-BA2E1531B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B98D4-4C32-42A2-80F7-17735C4B9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06D58-A58C-4F5D-BFBD-46A39F314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461BE-2F25-4483-87E7-3147A450E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701A7-2E69-4596-BC26-96455BFC7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D60B1-6339-4A79-A765-4CA4943DF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CBC93-735E-4414-81A0-8596FB3F6B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475FB-911E-4835-9BFA-4059C69AA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05568-08DB-4BD3-A338-3FD68E6EC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44C82-121A-416A-A8D0-4E2F17A5E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502AF-9E3F-4007-BD07-412821F6A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9EDCA-F98A-4242-9999-3438D539B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4415C-A2FC-4001-A598-3BF549723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C2A41-265C-4358-BC59-1D1683456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4ADB7-9172-4462-8FE6-CA936C1E5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5D6E-00A0-4502-9280-D08512EA4EA8}"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6819-5B54-4B89-A9E8-A8FC5FDB9560}"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8</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λιτική επικοινων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Τα</a:t>
            </a:r>
            <a:r>
              <a:rPr b="0" lang="en-US" sz="3800" spc="-1" strike="noStrike">
                <a:solidFill>
                  <a:srgbClr val="660033"/>
                </a:solidFill>
                <a:latin typeface="Times New Roman"/>
              </a:rPr>
              <a:t> </a:t>
            </a:r>
            <a:r>
              <a:rPr b="0" lang="el-GR" sz="3800" spc="-1" strike="noStrike">
                <a:solidFill>
                  <a:srgbClr val="660033"/>
                </a:solidFill>
                <a:latin typeface="Times New Roman"/>
              </a:rPr>
              <a:t>μέσα ενημέρωσης </a:t>
            </a:r>
            <a:br>
              <a:rPr sz="3800"/>
            </a:br>
            <a:r>
              <a:rPr b="0" lang="el-GR" sz="3800" spc="-1" strike="noStrike">
                <a:solidFill>
                  <a:srgbClr val="660033"/>
                </a:solidFill>
                <a:latin typeface="Times New Roman"/>
              </a:rPr>
              <a:t>στα απολυταρχικά κράτη</a:t>
            </a:r>
            <a:endParaRPr b="0" lang="en-US" sz="3800" spc="-1" strike="noStrike">
              <a:solidFill>
                <a:srgbClr val="66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ριορισμός ελεύθερης έκφραση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δημοσιογραφία είναι καθυποταγμένη</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νιχρά οικονομικά μέσ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απαραγωγή της πολιτικής γραμμής του καθεστώτο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δημοσιογράφοι αυτολογοκρίνοντα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Τα</a:t>
            </a:r>
            <a:r>
              <a:rPr b="0" lang="en-US" sz="3800" spc="-1" strike="noStrike">
                <a:solidFill>
                  <a:srgbClr val="660033"/>
                </a:solidFill>
                <a:latin typeface="Times New Roman"/>
              </a:rPr>
              <a:t> </a:t>
            </a:r>
            <a:r>
              <a:rPr b="0" lang="el-GR" sz="3800" spc="-1" strike="noStrike">
                <a:solidFill>
                  <a:srgbClr val="660033"/>
                </a:solidFill>
                <a:latin typeface="Times New Roman"/>
              </a:rPr>
              <a:t>μέσα ενημέρωσης </a:t>
            </a:r>
            <a:br>
              <a:rPr sz="3800"/>
            </a:br>
            <a:r>
              <a:rPr b="0" lang="el-GR" sz="3800" spc="-1" strike="noStrike">
                <a:solidFill>
                  <a:srgbClr val="660033"/>
                </a:solidFill>
                <a:latin typeface="Times New Roman"/>
              </a:rPr>
              <a:t>στα απολυταρχικά κράτη</a:t>
            </a:r>
            <a:endParaRPr b="0" lang="en-US" sz="3800" spc="-1" strike="noStrike">
              <a:solidFill>
                <a:srgbClr val="66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ροπαγάνδα (propaganda) είναι μορφή επικοινωνίας ενός οργανισμού που στοχεύει στην προώθηση συγκεκριμένου στόχου μέσω της αλλαγής των στάσεων και ιδιαίτερα της συμπεριφοράς μεγάλου αριθμού ανθρώπω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Τα μέσα ενημέρωσης </a:t>
            </a:r>
            <a:br>
              <a:rPr sz="3800"/>
            </a:br>
            <a:r>
              <a:rPr b="0" lang="el-GR" sz="3800" spc="-1" strike="noStrike">
                <a:solidFill>
                  <a:srgbClr val="660033"/>
                </a:solidFill>
                <a:latin typeface="Times New Roman"/>
              </a:rPr>
              <a:t>στις ανελεύθερες δημοκρατίες</a:t>
            </a:r>
            <a:endParaRPr b="0" lang="en-US" sz="3800" spc="-1" strike="noStrike">
              <a:solidFill>
                <a:srgbClr val="66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γαλύτερη ελευθερία σε σχέση με τα απολυταρχικά καθεστώτ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βολή της κυρίαρχης πολιτικής φιγούρα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ιέσεις από πολιτικούς και ισχυρά πρόσωπα του επιχειρηματικού κόσμο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μαζικά μέσα (mass media) αναφέρονται στις μεθόδους επικοινωνίας που μπορούν να προσεγγίσουν ταυτοχρόνως ένα μεγάλο και εν δυνάμει απεριόριστο αριθμό δεκτών. Τα μέσα αυτά περιλαμβάνουν την τηλεόραση, τις εφημερίδες, το ραδιόφωνο, τα βιβλία, τα περιοδικά, τον κινηματογράφο, τα ιστολόγια, τις ιστοσελίδες και τις αφίσες.</a:t>
            </a:r>
            <a:endParaRPr b="0" lang="en-US" sz="2800" spc="-1" strike="noStrike">
              <a:solidFill>
                <a:srgbClr val="000000"/>
              </a:solidFill>
              <a:latin typeface="Arial"/>
            </a:endParaRPr>
          </a:p>
        </p:txBody>
      </p:sp>
      <p:sp>
        <p:nvSpPr>
          <p:cNvPr id="107"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α μαζικά μέσα</a:t>
            </a:r>
            <a:endParaRPr b="0" lang="en-US" sz="42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8.1:</a:t>
            </a:r>
            <a:r>
              <a:rPr b="0" lang="en-US" sz="2000" spc="-1" strike="noStrike">
                <a:solidFill>
                  <a:srgbClr val="000000"/>
                </a:solidFill>
                <a:latin typeface="Arial"/>
              </a:rPr>
              <a:t> </a:t>
            </a:r>
            <a:r>
              <a:rPr b="0" lang="el-GR" sz="2000" spc="-1" strike="noStrike">
                <a:solidFill>
                  <a:srgbClr val="000000"/>
                </a:solidFill>
                <a:latin typeface="Arial"/>
              </a:rPr>
              <a:t>Το «μοντέλο μετάδοσης» της πολιτικής επικοινωνίας</a:t>
            </a:r>
            <a:endParaRPr b="0" lang="en-US" sz="2000" spc="-1" strike="noStrike">
              <a:solidFill>
                <a:srgbClr val="000000"/>
              </a:solidFill>
              <a:latin typeface="Arial"/>
            </a:endParaRPr>
          </a:p>
        </p:txBody>
      </p:sp>
      <p:sp>
        <p:nvSpPr>
          <p:cNvPr id="109" name="PlaceHolder 2"/>
          <p:cNvSpPr>
            <a:spLocks noGrp="1"/>
          </p:cNvSpPr>
          <p:nvPr>
            <p:ph type="title"/>
          </p:nvPr>
        </p:nvSpPr>
        <p:spPr>
          <a:xfrm>
            <a:off x="76212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Το «μοντέλο μετάδοσης» της πολιτικής επικοινωνίας</a:t>
            </a:r>
            <a:endParaRPr b="0" lang="en-US" sz="3800" spc="-1" strike="noStrike">
              <a:solidFill>
                <a:srgbClr val="660033"/>
              </a:solidFill>
              <a:latin typeface="Times New Roman"/>
            </a:endParaRPr>
          </a:p>
        </p:txBody>
      </p:sp>
      <p:pic>
        <p:nvPicPr>
          <p:cNvPr id="110" name="Picture 5" descr="C:\Users\EPIMELEIA\Dropbox\Kritiki-Book-Proofing\14-sigritiki-politiki-hague\images\Hag_Fig_08_01.png"/>
          <p:cNvPicPr/>
          <p:nvPr/>
        </p:nvPicPr>
        <p:blipFill>
          <a:blip r:embed="rId1"/>
          <a:stretch/>
        </p:blipFill>
        <p:spPr>
          <a:xfrm>
            <a:off x="703440" y="2514600"/>
            <a:ext cx="828828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ανάπτυξη των μέσων επικοινωνίας</a:t>
            </a:r>
            <a:endParaRPr b="0" lang="en-US" sz="3800" spc="-1" strike="noStrike">
              <a:solidFill>
                <a:srgbClr val="66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γχρονες τάσεις στη μαζική επικοινωνία</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μπορευματοποίη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τακερματισμό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αγκοσμιοποίη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αντίδρασ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ομές των ΜΜΕ</a:t>
            </a:r>
            <a:endParaRPr b="0" lang="en-US" sz="4200" spc="-1" strike="noStrike">
              <a:solidFill>
                <a:srgbClr val="66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όρος δομή των ΜΜΕ (structure of the media) αναφέρεται στα γενικά πρότυπα που ακολουθούν τα ΜΜΕ και, ειδικότερα, στις σχέσεις μεταξύ των μέσων επικοινωνίας, του κράτους και της οικονομία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 αντίκτυπος των μέσων</a:t>
            </a:r>
            <a:endParaRPr b="0" lang="en-US" sz="4200" spc="-1" strike="noStrike">
              <a:solidFill>
                <a:srgbClr val="66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επιδράσεις των μέσων επικοινωνία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νίσχυση (reinforcement) </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αμόρφωση της ημερήσιας θεματολογίας (agenda- setting) </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ρμηνευτική πλαισίωση (framing) </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ευτερογενής επίδραση (prim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ινή γνώμη</a:t>
            </a:r>
            <a:endParaRPr b="0" lang="en-US" sz="4200" spc="-1" strike="noStrike">
              <a:solidFill>
                <a:srgbClr val="66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κοινή γνώμη (public opinion) μπορεί να αναφέρεται απλώς (1) στο εύρος των απόψεων που έχει ένα σημαντικό ποσοστό του πληθυσμού για κάποιο αμφιλεγόμενο ζήτημα. O πιο φιλόδοξος ορισμός είναι ότι (2) ο όρος υποδηλώνει τη σταθμισμένη κρίση μιας κοινότητας για ένα θέμα κοινού ενδιαφέροντος, κρίση που σχηματίζεται στο πλαίσιο κοινών πολιτικών στόχων.</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Qualter, 199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ινή γνώμη</a:t>
            </a:r>
            <a:endParaRPr b="0" lang="en-US" sz="4200" spc="-1" strike="noStrike">
              <a:solidFill>
                <a:srgbClr val="66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τρήσεις της κοινής γνώμη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φυγμομέτρη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ειγματοληπτική έρευν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μάδα εστίαση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αβουλευτική δημοσκόπηση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ινή γνώμη</a:t>
            </a:r>
            <a:endParaRPr b="0" lang="en-US" sz="4200" spc="-1" strike="noStrike">
              <a:solidFill>
                <a:srgbClr val="66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όρος στρατευμένο κοινό (issue ή attentive public) αναφέρεται στη μειοψηφία που έχει ειδικό ενδιαφέρον ή γνώσεις επί ενός συγκεκριμένου θέματο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3T06:09:04Z</dcterms:created>
  <dc:creator>pc</dc:creator>
  <dc:description/>
  <dc:language>en-US</dc:language>
  <cp:lastModifiedBy>EPIMELEIA</cp:lastModifiedBy>
  <dcterms:modified xsi:type="dcterms:W3CDTF">2013-09-23T09:16:54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